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E81-4699-4C5E-98C3-82867AB8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E46-9135-42A6-B851-D0C30E8B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04D9-42D7-4B23-903E-8945B530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B22-EAAF-4C96-B19F-CB513C14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E20-2135-4685-AC68-ACC13CB9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102-E67F-404F-91E6-513BF232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38C-3083-4D9D-B241-36458ADF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22A-0AF8-4DB2-B551-DD29BCAD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57F-6AD2-466D-A355-44D33936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92A-92B3-4EF7-BE7F-1744AA37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DF1-B0FD-4F6C-9DA8-400371AC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03F-77D1-4FFA-B0D8-DCA88881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D3E1-3DBD-4A5D-8048-464E7037A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rucifixion2" descr=""/>
          <p:cNvPicPr/>
          <p:nvPr/>
        </p:nvPicPr>
        <p:blipFill>
          <a:blip r:embed="rId1"/>
          <a:stretch/>
        </p:blipFill>
        <p:spPr>
          <a:xfrm>
            <a:off x="40384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86200" cy="10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يا شَعْبي وَصَحْب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أينَ عهدُ الايمـا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أينَ الوفـا بالحـب</a:t>
            </a: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والوَداد والرضـوا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كالقاتِل والعدو دفعتموني</a:t>
            </a: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للهَـوا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وما بيـنَ اللصين صَلبتُموني</a:t>
            </a: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عُريا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sus%20on%20cross%20blck%20bkground" descr=""/>
          <p:cNvPicPr/>
          <p:nvPr/>
        </p:nvPicPr>
        <p:blipFill>
          <a:blip r:embed="rId1"/>
          <a:stretch/>
        </p:blipFill>
        <p:spPr>
          <a:xfrm>
            <a:off x="5072040" y="0"/>
            <a:ext cx="4071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4876920" cy="90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cc99"/>
                </a:solidFill>
                <a:latin typeface="Arial"/>
                <a:cs typeface="Simplified Arabic"/>
              </a:rPr>
              <a:t>تُرى ماذا عملـي   فصارَ هذا جَزائـ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Arial"/>
                <a:ea typeface="Simplified Arabic"/>
              </a:rPr>
              <a:t>  تُرى من هُـوْ المدعي وما هُوْ وُجُوب  قضائ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Arial"/>
                <a:ea typeface="Simplified Arabic"/>
              </a:rPr>
              <a:t> أما تَذكُرون الجميـل    اما تَذكُـرون  سخائ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Arial"/>
                <a:cs typeface="Simplified Arabic"/>
              </a:rPr>
              <a:t>كـم عليـلٍ كم سقيـم  </a:t>
            </a:r>
            <a:r>
              <a:rPr b="1" lang="ar-SA" sz="4400" spc="-1" strike="noStrike">
                <a:solidFill>
                  <a:srgbClr val="ffcc99"/>
                </a:solidFill>
                <a:latin typeface="Arial"/>
              </a:rPr>
              <a:t>قـد شفاهُ اعتنـــائ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t12" descr=""/>
          <p:cNvPicPr/>
          <p:nvPr/>
        </p:nvPicPr>
        <p:blipFill>
          <a:blip r:embed="rId1"/>
          <a:stretch/>
        </p:blipFill>
        <p:spPr>
          <a:xfrm>
            <a:off x="4952880" y="0"/>
            <a:ext cx="4772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4876920" cy="87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  <a:cs typeface="Simplified Arabic"/>
              </a:rPr>
              <a:t>يا ناظرينَ شِدَّتــي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	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     يا مُبصريـنَ  بلوت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  يا سامعيـن بكائــي وحَسَراتِ والدتــ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  هل وجدتــم من بُلي وأصابتـه  مصيبتـ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cc"/>
                </a:solidFill>
                <a:latin typeface="Arial"/>
                <a:cs typeface="Simplified Arabic"/>
              </a:rPr>
              <a:t>هل مَـــن سُقـي كأسي 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</a:rPr>
              <a:t>واستطعـم  مرارتــي</a:t>
            </a:r>
            <a:r>
              <a:rPr b="1" lang="ar-SA" sz="4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581280" cy="10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يا مريـمُ أمَـي   نَحيبُك يَزيدُ أدمُع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إرحمينـي اسْكُتي اتْركيني وارجِع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 يا أبتاه لمــاذا تتركُني  بوجع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خنقتني الحَسَرات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</a:rPr>
              <a:t>وتمزَّقــت أضلعـي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esus%20meets%20his%20mother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8:28:51Z</dcterms:created>
  <dc:creator>SUZANNE.MD</dc:creator>
  <dc:description/>
  <dc:language>en-US</dc:language>
  <cp:lastModifiedBy>SUZANNE.MD</cp:lastModifiedBy>
  <dcterms:modified xsi:type="dcterms:W3CDTF">2003-03-13T05:00:12Z</dcterms:modified>
  <cp:revision>2</cp:revision>
  <dc:subject/>
  <dc:title>PowerPoint Presentation</dc:title>
</cp:coreProperties>
</file>